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C6A-6723-4517-B9C3-E55E4B53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612-13E9-4E0B-B493-517B7353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5A0-1CAB-4EEA-B6BC-2C251946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DDC-0B74-40C7-AFB7-0A866651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220-3B92-445B-84BB-B76C8A70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836-508F-4220-B637-A15781B9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EF9-F595-4E8D-B1E5-63405418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DB4-46EB-44DB-BF90-2FE46A0C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737-A4A1-4AF0-AB2B-DB89E2A4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F7B-85BB-4CAF-ACCE-F89013A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ED8-04FD-4503-A050-4FB1C8FB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C50-34CE-46D2-B602-0937C78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FA1-F3EA-4932-AF8A-D709DD16F1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4.jpeg"/><Relationship Id="rId9" Type="http://schemas.openxmlformats.org/officeDocument/2006/relationships/hyperlink" Target="http://photos1.blogger.com/blogger/7715/1414/1600/JenniferAniston-GQ-1.jpg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1780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gazine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e Base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an Isra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rea Ludw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chel Schlen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t Sieg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itlin Wea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128000" y="4191120"/>
            <a:ext cx="20160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7803" r="12637" b="24333"/>
          <a:stretch/>
        </p:blipFill>
        <p:spPr>
          <a:xfrm>
            <a:off x="609480" y="44956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7803" r="12637" b="24333"/>
          <a:stretch/>
        </p:blipFill>
        <p:spPr>
          <a:xfrm>
            <a:off x="7772400" y="426708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0" t="7803" r="12637" b="24333"/>
          <a:stretch/>
        </p:blipFill>
        <p:spPr>
          <a:xfrm>
            <a:off x="685800" y="38088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over image - issue 14"/>
          <p:cNvPicPr/>
          <p:nvPr/>
        </p:nvPicPr>
        <p:blipFill>
          <a:blip r:embed="rId7"/>
          <a:stretch/>
        </p:blipFill>
        <p:spPr>
          <a:xfrm>
            <a:off x="3513240" y="0"/>
            <a:ext cx="2047680" cy="2668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rcRect l="0" t="7803" r="12637" b="24333"/>
          <a:stretch/>
        </p:blipFill>
        <p:spPr>
          <a:xfrm>
            <a:off x="3809880" y="685800"/>
            <a:ext cx="569880" cy="592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22960" y="0"/>
            <a:ext cx="202104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rcRect l="0" t="7803" r="12637" b="24333"/>
          <a:stretch/>
        </p:blipFill>
        <p:spPr>
          <a:xfrm>
            <a:off x="7966080" y="284040"/>
            <a:ext cx="5698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cription expenses become incrementally more costly beyond the natural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617220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ted subscription expense line for each magaz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429000" cy="2290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6440" y="609480"/>
            <a:ext cx="3427560" cy="2289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4567320"/>
            <a:ext cx="3429000" cy="2290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743200" y="2590920"/>
            <a:ext cx="3427560" cy="229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410080" y="4114800"/>
            <a:ext cx="34275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gazines can incur penalties for performance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 to meet rate base in actual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ure on fees for rate base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69339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 ∑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Magazine 1 – 5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∆ Ad Revenue + ∆ Subscription Expense – Penalties]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∆ JMC Pro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209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"/>
          <p:cNvSpPr/>
          <p:nvPr/>
        </p:nvSpPr>
        <p:spPr>
          <a:xfrm flipH="1" flipV="1">
            <a:off x="6400440" y="3429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705720" y="34286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mizing the rate base yields savings for each magaz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80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209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2" name=""/>
          <p:cNvSpPr/>
          <p:nvPr/>
        </p:nvSpPr>
        <p:spPr>
          <a:xfrm flipH="1" flipV="1">
            <a:off x="6400440" y="3429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705720" y="34286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ystal Ball Profit Foreca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6360" cy="452304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835280"/>
            <a:ext cx="6705720" cy="3422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5120" y="5638680"/>
            <a:ext cx="5943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ystal Ball Penal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42880" y="1757520"/>
            <a:ext cx="6710400" cy="3423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27360" y="5410080"/>
            <a:ext cx="59418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r generates profit of $14.8MM (+18.2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ario analysis generates profit at $17.0MM with penalties of $0.5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sales teams will need to start calling their clients to discuss implementing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y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/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118040" y="1600200"/>
          <a:ext cx="397836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8040" y="1600200"/>
                    <a:ext cx="397836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0600" y="1611360"/>
          <a:ext cx="4057560" cy="45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00" y="1611360"/>
                    <a:ext cx="4057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rculation and ad pages are weak for the magazine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34440" y="1650960"/>
            <a:ext cx="125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 Ad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15160" y="1820880"/>
            <a:ext cx="1254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rowth in Ad Sales (CAGR 00-04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70120" y="1324080"/>
            <a:ext cx="4254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5760" y="6221880"/>
            <a:ext cx="798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Circulation numbers only include magazines reported in ABC audit reports; Ad sales only include magazines reported through PIB rate card report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cquisitions/divestitures are recorded with current owner. Only includes magazines in operation since 2000 without acquisition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Magazine Publishers of America: Circulation all ABC Magazines, Ad Pages 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30320" y="1650960"/>
            <a:ext cx="392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 Circulation – Top 10 Compan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08480" y="1819440"/>
            <a:ext cx="162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rowth in Circulation (CAGR 00-04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1800" y="22096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1800" y="26827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.1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9120" y="312408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4.7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5812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5880" y="403848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0.3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38920" y="44956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1800" y="49687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8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1800" y="54100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3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59040" y="216540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0.8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59040" y="266688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3.2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82080" y="30481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2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82080" y="35053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.2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59040" y="403848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5.9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59040" y="443556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2.8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82080" y="489276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6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82080" y="533412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3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715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62320" y="585144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57006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33840" y="58374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12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ted Ave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tly, profitability has been declining recen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90720" y="1415880"/>
            <a:ext cx="746748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rial Problem Defi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 solution that will improve operating profitability for J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optimal rate base for each magazine that considers the trade off between ad revenue and subscription acquisition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range of profit scenarios that will occur following any rate bas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 Based on Data from 5 Magaz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an Magazine Company (JMC) owns 5 magazines competing in the relatively unknown readership category of decision model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ing Excel Your B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U Ju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n the World is President Me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ystal Ball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MC magazines have been facing circulation and profitability declines over the last few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 Base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ly commitment to advertisers for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consumers reached thr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criptions and newsstand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gazines are a dual revenue busi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1363680"/>
            <a:ext cx="76201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 revenue depends on the magazines rate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1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1:14Z</dcterms:created>
  <dc:creator>Matthew Siegel</dc:creator>
  <dc:description/>
  <dc:language>en-US</dc:language>
  <cp:lastModifiedBy>Stern Business School</cp:lastModifiedBy>
  <dcterms:modified xsi:type="dcterms:W3CDTF">2005-12-05T13:31:44Z</dcterms:modified>
  <cp:revision>33</cp:revision>
  <dc:subject/>
  <dc:title>Slide 1</dc:title>
</cp:coreProperties>
</file>